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EE4-0603-48F1-99A2-107213A7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26B-C043-479E-A5AC-025B0B89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D7E-BD96-45AB-8F50-B0F2D244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FC9-BA80-41A0-A701-2E1AF38C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746-B7A6-4ED0-BBDA-07D5722C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01-CB1C-49BC-A44A-808124A7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7A9-6E87-44E4-83CE-D050F76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594-2666-4084-B12F-70BD3929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4AB-B1F9-4588-978F-807B7AB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76F-BDB6-4BCA-B430-30BE082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276-57E1-4479-B404-1C460526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B07-253D-40EE-BF4B-AB19048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411B3-BDFD-4D1E-A7FF-5AA4FD765F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38337-7CA2-4BE0-B505-64160C117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reen shot 2014-01-24 at 6.29.22 PM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creen shot 2014-01-24 at 6.29.34 PM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creen shot 2014-01-24 at 6.29.44 PM.pn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creen shot 2014-01-24 at 6.30.03 PM.pn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23:30:51Z</dcterms:created>
  <dc:creator>Saint Michael</dc:creator>
  <dc:description/>
  <dc:language>en-US</dc:language>
  <cp:lastModifiedBy>Saint Michael</cp:lastModifiedBy>
  <dcterms:modified xsi:type="dcterms:W3CDTF">2014-01-24T23:31:50Z</dcterms:modified>
  <cp:revision>1</cp:revision>
  <dc:subject/>
  <dc:title>Slide 1</dc:title>
</cp:coreProperties>
</file>